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7.pct" ContentType="image/x-pict"/>
  <Override PartName="/ppt/media/image10.jpeg" ContentType="image/jpeg"/>
  <Override PartName="/ppt/media/image6.jpeg" ContentType="image/jpeg"/>
  <Override PartName="/ppt/media/image9.pct" ContentType="image/x-pict"/>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86F8A-C688-4063-B0D4-DCB748DDB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2EE44-B723-47BC-AB95-CA367672E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87A4D-86D1-4867-A76A-07AB35128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FCF18-8514-4317-949A-7567E472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21342-F779-433A-A1C6-0DBDA54C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D959-F89B-4FDB-B509-3741F25E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3117B-4396-4986-9C77-7A660DE8A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BDA7-133C-4636-9459-0B2EF9E5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E38F4-CC3C-4C15-98EB-9579D7C3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F2BE-5F36-4427-A820-45709E5B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2CAB-057B-48F9-A60D-F198E702C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8392-096E-4A44-BF8B-E442F98E5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395D-8427-480F-B4E3-BDE1594AB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Mesopotamia" TargetMode="External"/><Relationship Id="rId3" Type="http://schemas.openxmlformats.org/officeDocument/2006/relationships/image" Target="../media/image9.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gukkhser.wordpress.com/2006/09/12/god-king-by-joanne-williamson/" TargetMode="External"/><Relationship Id="rId3" Type="http://schemas.openxmlformats.org/officeDocument/2006/relationships/hyperlink" Target="http://www.nndb.com/people/333/000174808/" TargetMode="External"/><Relationship Id="rId4" Type="http://schemas.openxmlformats.org/officeDocument/2006/relationships/hyperlink" Target="http://www.librarything.com/author/williamsonjoanne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The God 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y Quentin Barnes</a:t>
            </a:r>
            <a:endParaRPr b="0" lang="en-US" sz="3200" spc="-1" strike="noStrike">
              <a:solidFill>
                <a:srgbClr val="000000"/>
              </a:solidFill>
              <a:latin typeface="Arial"/>
            </a:endParaRPr>
          </a:p>
          <a:p>
            <a:pPr algn="ctr">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 </a:t>
            </a:r>
            <a:r>
              <a:rPr b="1" lang="en-US" sz="3200" spc="-1" strike="noStrike" u="sng">
                <a:solidFill>
                  <a:srgbClr val="ffffff"/>
                </a:solidFill>
                <a:uFillTx/>
                <a:latin typeface="Arial"/>
              </a:rPr>
              <a:t>Thematic Book Repor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Thanks for watching</a:t>
            </a:r>
            <a:endParaRPr b="0" lang="en-US" sz="96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4"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is story starts when Taharka, the son of an Egyptian pharaoh, is on a crocodile hunt.During this, Taharka rips a part of his clothing, which is a crime, to save a sailor’s lif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n Taharka gets back, his Dad, the Pharaoh, is dying. Taharka is called to the hall of the gods.There, Taharka is made Pharaoh - he has also  received his punishment.</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ne day when Taharka was too depressed to eat, the taster had already tasted the food.  The taster died the  next day.Later, Taharka had to flee for his life because of an invasion.  At first it seemed like it would only be for a few weeks. But then it seemed like it would have to be for years, because his brother, Shabatakha, had tried and succeeded in taking over Egypt</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this point, Taharka was staying with Talos, a friend.  They had to leave the city because Shabatakha was looking for Tahark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y wanted to leave the country, but there were no boats going out.  Their only hope was to travel by the desert.  The only problem was that the Assyrians were battling out on the des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s they were crossing the desert, the Assyrians captured them along with their donkey, Hermes.A few nights later, Taharka and Amos escaped to Amos’s home town, Jerusalem.The next day, the Assyrians has a sickness wash out their whole army.  And the next day, Taharka got up the courage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harka-a pharaoh</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os-a friend of </a:t>
            </a:r>
            <a:r>
              <a:rPr b="1" lang="en-US" sz="3200" spc="-1" strike="noStrike">
                <a:solidFill>
                  <a:srgbClr val="ffffff"/>
                </a:solidFill>
                <a:latin typeface="Arial"/>
              </a:rPr>
              <a:t>Taharka</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the king of Jerusalem</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abataka-a boy who is </a:t>
            </a:r>
            <a:r>
              <a:rPr b="1" lang="en-US" sz="3200" spc="-1" strike="noStrike">
                <a:solidFill>
                  <a:srgbClr val="ffffff"/>
                </a:solidFill>
                <a:latin typeface="Arial"/>
              </a:rPr>
              <a:t>Taharka brother and </a:t>
            </a:r>
            <a:r>
              <a:rPr b="1" lang="en-US" sz="3200" spc="-1" strike="noStrike">
                <a:solidFill>
                  <a:srgbClr val="ffffff"/>
                </a:solidFill>
                <a:latin typeface="Arial"/>
              </a:rPr>
              <a:t>only wants power</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os-a friend</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rmes-a donkey</a:t>
            </a:r>
            <a:endParaRPr b="0" lang="en-US" sz="32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starts in Egyp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they move out into the dese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that they move to the neo-Assyrian army cam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they escaped to Jerusa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they moved to the Egyptian army cam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harka, Tirhaqah, Tirhakah</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harka can be spelled many different ways: Tirhakah, Tirhaqah, Taharka</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harka was an Egyptian Pharaoh</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he right is Taharka’s                        </a:t>
            </a:r>
            <a:r>
              <a:rPr b="1" i="1" lang="en-US" sz="2800" spc="-1" strike="noStrike">
                <a:solidFill>
                  <a:srgbClr val="ffffff"/>
                </a:solidFill>
                <a:latin typeface="Arial"/>
              </a:rPr>
              <a:t>Granite sphinx</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rhaqah was a main character in                  in my book </a:t>
            </a:r>
            <a:r>
              <a:rPr b="1" i="1" lang="en-US" sz="2800" spc="-1" strike="noStrike" u="sng">
                <a:solidFill>
                  <a:srgbClr val="ffffff"/>
                </a:solidFill>
                <a:uFillTx/>
                <a:latin typeface="Arial"/>
              </a:rPr>
              <a:t>“The God King”</a:t>
            </a:r>
            <a:r>
              <a:rPr b="1" lang="en-US" sz="2800" spc="-1" strike="noStrike">
                <a:solidFill>
                  <a:srgbClr val="ffffff"/>
                </a:solidFill>
                <a:latin typeface="Arial"/>
              </a:rPr>
              <a:t> </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died in 664 B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2"/>
          <a:stretch/>
        </p:blipFill>
        <p:spPr>
          <a:xfrm>
            <a:off x="6400800" y="3200400"/>
            <a:ext cx="2117880" cy="281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eo-Assyrian Empi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Neo-Assyrian Empire was a period of </a:t>
            </a:r>
            <a:r>
              <a:rPr b="0" lang="en-US" sz="2800" spc="-1" strike="noStrike" u="sng">
                <a:solidFill>
                  <a:srgbClr val="009999"/>
                </a:solidFill>
                <a:uFillTx/>
                <a:latin typeface="Arial"/>
                <a:hlinkClick r:id="rId2"/>
              </a:rPr>
              <a:t>Mesopotamian</a:t>
            </a:r>
            <a:r>
              <a:rPr b="1" lang="en-US" sz="2800" spc="-1" strike="noStrike">
                <a:solidFill>
                  <a:srgbClr val="ffff00"/>
                </a:solidFill>
                <a:latin typeface="Arial"/>
              </a:rPr>
              <a:t> history which began in 934 BC and ended in 609 BC</a:t>
            </a:r>
            <a:endParaRPr b="0" lang="en-US" sz="2800" spc="-1" strike="noStrike">
              <a:solidFill>
                <a:srgbClr val="000000"/>
              </a:solidFill>
              <a:latin typeface="Arial"/>
            </a:endParaRPr>
          </a:p>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featured great armies with                   huge machines as showed</a:t>
            </a:r>
            <a:endParaRPr b="0" lang="en-US" sz="2800" spc="-1" strike="noStrike">
              <a:solidFill>
                <a:srgbClr val="000000"/>
              </a:solidFill>
              <a:latin typeface="Arial"/>
            </a:endParaRPr>
          </a:p>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the time of this story               Sennacherib was the King</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3"/>
          <a:stretch/>
        </p:blipFill>
        <p:spPr>
          <a:xfrm>
            <a:off x="6095880" y="3429000"/>
            <a:ext cx="2571840" cy="342900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131b"/>
                </a:solidFill>
                <a:latin typeface="Arial"/>
              </a:rPr>
              <a:t>Autho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a131b"/>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131b"/>
                </a:solidFill>
                <a:latin typeface="Verdana"/>
              </a:rPr>
              <a:t>Joanne S. Williamson</a:t>
            </a:r>
            <a:endParaRPr b="0" lang="en-US" sz="2800" spc="-1" strike="noStrike">
              <a:solidFill>
                <a:srgbClr val="000000"/>
              </a:solidFill>
              <a:latin typeface="Arial"/>
            </a:endParaRPr>
          </a:p>
          <a:p>
            <a:pPr marL="343080" indent="-343080">
              <a:lnSpc>
                <a:spcPct val="90000"/>
              </a:lnSpc>
              <a:spcBef>
                <a:spcPts val="700"/>
              </a:spcBef>
              <a:buClr>
                <a:srgbClr val="fa131b"/>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131b"/>
                </a:solidFill>
                <a:latin typeface="Verdana"/>
              </a:rPr>
              <a:t>Other books:Hittite Warrior/God King: A Story in the Days of King Hezekiah (Living History Library)/glorious conspiracy/The Iron Charm/The eagles have flown/Hillside Education Literature Guide for Hittite Warrior/Jakobinerens datter/And Forever Free...</a:t>
            </a:r>
            <a:endParaRPr b="0" lang="en-US" sz="28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find out more about the author and the main character</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Joanne Williamson autho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Taharqa main characte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Joanne S. Williamson</a:t>
            </a:r>
            <a:endParaRPr b="0" lang="en-US" sz="3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5:55:13Z</dcterms:created>
  <dc:creator>Office 2004 Test Drive User</dc:creator>
  <dc:description/>
  <dc:language>en-US</dc:language>
  <cp:lastModifiedBy>Office 2004 Test Drive User</cp:lastModifiedBy>
  <dcterms:modified xsi:type="dcterms:W3CDTF">2009-11-18T00:21:29Z</dcterms:modified>
  <cp:revision>16</cp:revision>
  <dc:subject/>
  <dc:title>Thematic Book Report</dc:title>
</cp:coreProperties>
</file>